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FACB-7928-4D0B-805A-C3E8664C0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01D3-7499-46A3-A97A-7E90A2D4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1AA6-6629-43E9-9D5E-C67AA1454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D97B-6AD9-47F6-B3F1-1D341E2CB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DA68-22B9-4FAA-9128-46835D96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F203-2417-49EE-8CDE-73A6B705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37E0-792C-4C7E-851C-12B42C97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2C28-3AE1-422C-A4C1-DDF1666A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63BE-365C-425B-865B-D9E5AC6D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52F4-7C5E-4314-8629-C3F289DB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7F7D-8D7D-4500-BEC3-3D43EFDC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1D1F-F45C-4DC9-9E02-8AC9B090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B588-057D-405D-8D92-B0747EBACA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20221" t="27778" r="61030" b="19444"/>
          <a:stretch/>
        </p:blipFill>
        <p:spPr>
          <a:xfrm>
            <a:off x="5638680" y="1981080"/>
            <a:ext cx="3260880" cy="374976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0" y="1600200"/>
            <a:ext cx="5486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 a program that allows you to view all running programs and allows you to shut down a program that is not responding or froze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[CTRL + ALT + DEL] to access the progr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ounded Rectangle 7"/>
          <p:cNvSpPr/>
          <p:nvPr/>
        </p:nvSpPr>
        <p:spPr>
          <a:xfrm>
            <a:off x="457200" y="4952880"/>
            <a:ext cx="44197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3152"/>
                </a:solidFill>
                <a:latin typeface="Calibri"/>
              </a:rPr>
              <a:t>When PowerPoint froze, she used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ask manager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403152"/>
                </a:solidFill>
                <a:latin typeface="Calibri"/>
              </a:rPr>
              <a:t>to close the progr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Rectangle 8" descr=""/>
          <p:cNvPicPr/>
          <p:nvPr/>
        </p:nvPicPr>
        <p:blipFill>
          <a:blip r:embed="rId2"/>
          <a:stretch/>
        </p:blipFill>
        <p:spPr>
          <a:xfrm>
            <a:off x="414360" y="-36360"/>
            <a:ext cx="804708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20:07:29Z</dcterms:created>
  <dc:creator>Administrator</dc:creator>
  <dc:description/>
  <dc:language>en-US</dc:language>
  <cp:lastModifiedBy>Administrator</cp:lastModifiedBy>
  <dcterms:modified xsi:type="dcterms:W3CDTF">2009-03-13T20:18:49Z</dcterms:modified>
  <cp:revision>2</cp:revision>
  <dc:subject/>
  <dc:title>Slide 1</dc:title>
</cp:coreProperties>
</file>